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429-588F-4DE3-AB9A-AB724432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A8F-831A-458D-8839-A47F844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4B6904-F2E0-41F7-B4CD-0B539B54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5314D-E119-4E50-B012-3C675F02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2C63B-D18E-4ED3-9A31-A15BA5B6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FF862-E3E3-4C47-B26C-E1FDEC5B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55C7B-E474-45C3-B63E-B84ED271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5859D-2A0D-40F7-870B-FBD3CB6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B72B0-DF98-4973-B1F6-474FEBF5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3CF9D-7B5C-405B-B452-6B9E04CB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63648-2588-4183-AC4B-6490A31E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473B4-03B5-4182-8B02-40D419C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C96-2220-46C5-9974-EE2A06EF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4EEC9-77F9-476E-B33E-74CBFC61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85D03-DDE8-471B-B2EB-23CCD9D9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17E68-CE1E-4CB9-B6ED-EABF00AA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8F743-8CA1-4D89-A2C3-A5F6BD62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002DA-C772-4DBA-AD05-9D822D68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A1550-9125-4C8A-83E2-FFD7217C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D4599-4140-4D06-B9E2-066C90B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4BDFD-DB14-481C-9192-1192130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33066-8066-4DD0-98C9-75053BEB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8965B-3D86-46CB-8B3F-E011D23C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1DC-8176-4440-9E3C-42D5F1E7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5FECE-89F2-4350-AB46-1C055230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9768B1-F4AF-4BCF-A194-1D4882D1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F54AB4-5B48-4B4A-A13A-5AF4BBAA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40E4AF-666E-4A96-B895-13132BA9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1AFBE3-D733-481D-B0D7-16BBF2D8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7CCCE8-D3D2-4C26-A1A9-F614ECA8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0BEA57-A691-451C-9D32-2328ECA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F18B63-95D9-4CF6-B9D4-34D1B571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4571BE-F26C-4A89-9AEE-52D2237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F1B1FE-0CDA-4C6A-95E5-26D1D31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CBDBF7-9D76-4000-AA99-00E1A259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CD85F8-5ABA-46C2-9987-2CD5CC09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6E497C-1AE6-4E7D-ABF1-58B54491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F6C23-ADE2-4FEA-9FD5-00D561CC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5F454-5B4C-4154-ACA8-364D153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F7852-3945-413A-B2D3-B37B9A22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F7633-84C2-4C19-B853-F0AA995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A2A2F-19DD-4571-99B2-3BB7A1F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B88397-A06E-403B-9675-77EE7B33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B901D-3AD9-4580-8AD3-B454711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03EF2-D6BC-4A81-B6F2-A73120D6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2281C-1A44-4960-9F83-794FEEA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6E154-C2C3-44BC-9E4B-9C0E3785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8EEF2-3194-4456-BB54-7315FC96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F94B2-3EE5-4383-8F53-9478D803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462EB3-EADD-492E-BA76-E0D6633A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7832C7-638C-48E2-A602-D4AC9C6E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2815E1-5346-467C-AB97-6FEC2D7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DC6782-65B2-45DE-A11D-F07E479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514852-CE89-4E0C-B216-578F6D4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A2D61A-7757-41B2-ACBA-9BA2912A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FEDC1A-B1C0-42B9-97AC-3232CF0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B7B0AB-F8F1-4302-90AE-E3316C3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3030B8-DF0E-42FA-A373-6975805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4FADD3-7A19-438B-AC41-C1F93E1E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1778E2-59C7-4344-BFE1-F00C301F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794E52-E9C5-4E81-93A7-74BDB99D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C200A-577C-4F6C-AACE-69201C21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A4F00-EEFC-4F81-BECC-9754782C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6966F-E873-4A51-9F00-012AE9E4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9AF35-5A6A-4EB2-A8C6-E8CD057C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061E6-FE92-4ABA-9E7B-5A47CE2E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25263-F8EE-4B6B-BCB2-8A6FA0A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EBF396-9270-4711-A4A8-D360E81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34C31-A009-4F90-9927-30DE459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65FBB-FAAC-431D-9C0C-10E58EE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79F61-D8C3-4E73-9C5C-A48C460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A6BF3-E1EA-484C-B216-D175C9D8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DFA02-A0A4-40D3-8F9A-791A4992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1E5A4-65DC-4E90-9670-9479F6C0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E6D9E-4EE7-4FCC-9731-3E025968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9EEAE-8373-4125-9149-17A092E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A3C6A-D473-4D3C-B3E3-8F33CDA1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F270B-6803-4DE8-9ADD-A8F7F936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55A99-29A9-412D-873A-880AEB1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5BCDA-CA53-45AC-A536-FEDB72E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C719E-7624-4D8E-B815-43CA166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AB521-97FB-48C0-BC04-75C98439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E4797-6458-478F-A55C-CFEFD655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1EE77-A891-4CBF-BBC8-6C54E539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CD091-0BFA-414C-956E-9BF79A5E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63A34-4447-493E-AC73-A278A116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8BCF1-45D3-4565-B939-B7D4E23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9C7DA-D9CE-4749-810D-3B6823DB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6640C-44F2-4620-916F-CB95DA1C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AFB66-8C7B-4B2A-96EE-5453D9A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D2475-B9E7-4883-B099-C4AC6BA7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93100-4A36-4B7F-BC25-733DFBD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C5A-D6E7-4FE9-AFA5-A6358888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F020D-0532-45AF-BB12-7A49174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66D56-CCEE-46E7-8E0B-8D285EC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E1947-A5E1-4C63-90E5-BAE8CD63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A46A7-BB1E-49A5-8448-C3E5A8BD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F4561-FEA3-464A-BFB7-281A829B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15C4B-640A-40F2-B534-3D54EF03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9FBA3-0F5A-4D3A-88D5-61EEE267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9289D-5CA4-472A-B743-C8B15176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D8693-C189-4F60-86AE-69FFE70B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34B32-53E0-46EB-BF8C-5AD20608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E8FAC-9A5B-47E6-868B-12942F2B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B3274-99D3-44E6-81E8-621B2EEE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BB955-D367-4F4E-BE79-3310C06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05299-E90F-45D9-9F58-D9139C6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17965-BEB0-4691-9939-3930B241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1FF4E-72D9-4F91-8B0C-DE880A1A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4057B-82AE-4603-A349-993B24C4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CE47A7-F005-4640-A03A-172ED98F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C4795-B81D-44D2-B973-15C1417C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B7B57-75E4-4237-A46C-87B158B9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0A6465-246F-401B-909A-E5E93FD0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D3F20-4631-47DF-BDEF-6EA071E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DCB79-7679-4684-A821-0C470CD9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55087-E8DD-46A9-9490-E69018D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946B0-94B3-4870-877A-908A14C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A85445-6E8D-46E3-A898-94DF0A8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E361D-55A0-4176-B3D0-071260EE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0877E-E166-41BC-84B0-47413742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2930E-373D-45CC-A5F4-29A06707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45640-8B4E-4228-9101-8694FCAD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AD932-CE0E-4A42-BECE-D28063A5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59D1A-F940-4B57-AF3F-FF3E8003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0153B-6023-4D70-9F70-FD3F712E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87F6B-28F9-4C27-87F7-3BEB0108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53374-8D24-4D17-A7B3-D70F2C2D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60BDD-F013-4DD2-9681-890240D9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D3F19-792F-4DED-B8F2-1C4C0312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785F0-F2D7-4A3B-B5C2-53CC32D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8F91F-A855-45F2-BDAB-57D2076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FF6EC-20B1-49FC-99D4-E3F8CD17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871D2-4080-4278-87AF-E4FADCB4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C4B0D-96E8-4284-AEB3-E35ACC00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14A91-40D5-4EB0-8513-3F5A68AD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4DC75-1B4C-42E9-A0F1-2B8AC4D9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B535A-7C54-493A-B951-E76E19C6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CFA5BE-98E7-466C-813D-3292D4F9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0A26A-B725-4AFE-9F64-3AA805C1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40DA9-8F88-4701-BD0E-F2751C1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CA738-7FB4-470C-B8B9-50C7BAE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D92D7-820A-4B97-BD5E-889F8F3A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E3A30-ECEB-4F8C-9942-6631631D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C5BB5A-179F-4D33-8E10-6B58D45C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D64EC-485E-4056-BA11-5E45D765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10989-BB16-4A13-9A65-A68810C8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D3761-7C3E-41B4-AE04-C0DF666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BC6E4-4199-4792-BE10-CE2AE6C0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E6C95-AF48-4288-97EE-40B8663F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A2BC4-AA54-4098-A783-1D2C551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248-8065-4D9B-9170-33CE2B5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D9474-B82C-46CC-83F6-61FB49D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47E1B-1867-41A9-ABB2-5D65A714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BF9B2-4CBA-424D-8079-F468D38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56BB9-4CCB-46C2-8F4C-C9128B4E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C1A4C-8015-460F-BC93-0DC55B38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07573-3A85-4F69-A843-94261015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E7754-A8D3-4A5D-B3D2-BDDFCD1B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A805B-5659-4F58-B1E3-DEBDC953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7FBD4-7666-484E-B1E9-D48BD3B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2A22AD-939D-4F10-8FDD-0A7FE30B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364-775A-4A7B-ACB1-A84F388E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436A0-AFE7-4B4D-AD32-71C6F28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23AA6-D523-4AD8-9222-51122AB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6ED74-1BBB-4D83-8241-9F7E4FB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1530C-FF5C-4C8A-BEB4-2F482772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C7FD6-4873-46A2-80CF-C120F123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56C1F-F045-4E51-93B6-F2B19EA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0591A-066D-4F7F-920C-D6A6F73F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B035A-F4AF-4785-9B78-352316BC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E32CAD-A827-4B9F-8180-3E209617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39A-4290-4C82-86F1-2249716D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ED1-6186-4417-949F-224DC8F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7FFF4A-7597-4C21-86FE-E22B3B78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CA9FCA-8C5C-428A-AE7A-341B221D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4F38D-F397-4AC9-8182-D99A99FD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44F0D-B494-4388-B706-19FF6D9D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01689-BE59-4A31-9636-77574E9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BBBD8-6596-48AB-8667-A6CF9931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74D01A-4F25-424C-AC4A-1C649CCB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9C13D-76EA-4AA0-8311-C9A9CF7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B306C-AFDE-4CE9-B846-62C8D6D2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198-32ED-4FAB-A30B-280EC3E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7E6F0-A2BF-4DD9-A68E-8861401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ABDF62-46AF-47A2-B762-5D9E275A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E1FB60-1F26-4B88-AD55-0DCD50C1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7E3E9F-EDC5-4B87-A519-B18F264A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B08B0-33BB-45F1-8F3A-3E155075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B4B4D-E40C-432B-916E-F3349F65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2BB5C-6826-4795-A519-B2A92C52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1A787-AABB-49B8-8F38-692B2FF6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EF8FC4-255C-4576-890A-A4C490C5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55AF55-3B69-4C25-A591-E8F1FF3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84D-90A9-4625-9D0B-6FD11FAE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DD820B-D11B-4AE0-9DE7-FC03435E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4F5272-5EC6-4809-ADB5-6DC01CB2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59CF41-C21D-490D-B7F2-7AC0B819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CCF493-3E94-4E5E-8196-737D9891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90D7C2-0DB2-4DD9-A3E2-896A90B0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CF880-BCE8-4F17-905C-89A854C6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2E56B4-7230-4C15-8DCF-F75273D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C87C45-4C3E-442B-A63D-316E9058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59E72B-852F-472F-8169-7DBBCE4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E46480-AE98-4CB3-A5C3-6220E22B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6DE-6E36-41BB-A94D-0FB198BF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880843-303B-46EF-909F-2FF7523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87820-11DF-4849-843B-9D6B73D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B17162-CADF-4566-9CC9-2F2E192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C73F6-2A2F-48E7-8550-AF7E7DA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9D597F-F2BA-4F63-AA81-6D46B574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B5A748-02D1-4598-A619-3C4FD12F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3D60B1-C962-44FF-BA13-E614EDED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95DA6-BAB6-49F6-A2AE-3D959B5F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AADB9-347D-4590-A2A8-9F2631DA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55DEF-C885-4579-BE37-7F3CEEF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FE548-C714-4A23-A23F-43692AACEA2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E5871-4C60-421B-9E6B-27ADAB6C40C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1E8BC-B869-4425-A2B6-77B704FF336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D5066-2439-426D-9191-3B8C362987D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1FEF0-E217-4F55-BED0-BCC4B62724C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1A2B1-CAE6-48D2-A0CC-9BB1369C5866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F651C-AC03-416C-BDF6-90E16545E2D2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481D2-8E68-4DB1-B0B1-55B7F901EAF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7C555-9E52-451B-9BF2-143AE07C4F9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61CDC-13A5-420A-B08F-1A875EB26D3B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AE34E-1459-453A-AEC1-8C2E778DD7C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9DD84-F279-405D-8A01-CBC61CECD327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063F0-96BC-400A-A98B-E8BF12DD889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C7465-E01B-47F6-93F0-B539CE3044F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F7247-C581-4726-82BF-9623C466754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F6496-24E0-49C9-AD90-3A32FEAAD1F4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CDDEB-8DB1-4C89-A377-68C87EBB3AC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62FF5-C137-401C-A103-41899836A1C8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32B98-E650-4415-8BDD-B5CF2E2A20D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02E3A-B212-4C5D-AC13-5EEA6E96979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31E01-C8B3-4C63-99D9-19037138B62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3D57D-781A-415B-AC3D-FB83E1D628D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A555A-1AE8-4EE1-8384-7C714E4F99C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277AA-D9F7-49D7-ADA0-10BFBCAB0B6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F4E0B-2481-4D3C-985A-A71C2414516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C5E82-45A5-4503-8288-3D7498E0EEEA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6F32F-E443-4130-8310-6DAAB542259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D1F02-1FAB-4321-A82E-19F20A04DF05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E54FC-F3B5-40D2-B770-AB81E153B66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BAFAB-762D-47C3-A9BD-BB271C48D629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26D3F-9D25-4448-B95C-20AC15805659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33270-02DD-4AC9-91AF-E46ECD7EE7A7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534B7-72C5-4F18-B96F-0BC3A7A3CC7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A142A-68B0-4A1E-824A-8D060776B65A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12DF6-00F3-4C64-ACED-F7A30C22B54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2EFFF-58EC-4CD1-9FC3-E5E6EC96AA2E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26D2B-010B-4446-84DA-98F80E9BFCB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07003-8C50-4ED3-9F6C-FE9F38CA370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E8DD5-9406-45A0-A2A1-E20B1DC0A06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63366"/>
                </a:solidFill>
                <a:latin typeface="Rockwell"/>
              </a:rPr>
              <a:t>Compliance Monitoring Results</a:t>
            </a:r>
            <a:endParaRPr b="0" lang="en-US" sz="25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Octorara School Distric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2009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orrective Action Proces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60 day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mprovement pla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ummary of finding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More individualize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D- sign in sheets, agendas, etc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imelin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ccurate document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IEP and other form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LEP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cademic need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LO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ssessment- above grade lev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gress monitoring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dentification of giftedness within curriculu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cceler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nrichmen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I training for staff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ull out program – incorrect mod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Education Facilitated Self Assessment (GE-FSA)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 be completed 30 days prior to visi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LEA is to establish a team to complet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opic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rategic Plans and Policy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ersonn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pecial Education/Dual exceptionaliti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reening and Evaluation Proces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ifted Education Placemen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al Safeguard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udent Record Review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rategic Plans and Policy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es for education of all gifted students enrolled in S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gulatory requirements – sec 16.4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ss for identification of gifted in need of SDI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upport and implementation of plan (16.4)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escription of progra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e of tracking of repor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ude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ersonnel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gram elements including cos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ocedure for providing info to PD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ersonnel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service training plan and documentation of attendance at trainings- sign-in sheets, agendas, hand-out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gular ed teache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rincipal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dministrato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upport staff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ertification of teacher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grpSp>
        <p:nvGrpSpPr>
          <p:cNvPr id="920" name="Rectangle 7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21" name="Rectangle 7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17520" y="134640"/>
            <a:ext cx="799632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pecial Education/Dual Exceptionalitie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hapter 14 preceden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parate screenings, IEP’s not necessary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ngle plan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ritten procedure for referring students from gifted ed to special ed and vice versa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Rockwell"/>
            </a:endParaRPr>
          </a:p>
        </p:txBody>
      </p:sp>
      <p:grpSp>
        <p:nvGrpSpPr>
          <p:cNvPr id="926" name="Rectangle 4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27" name="Rectangle 4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creening and Evaluation Proces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Identification syste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wareness activiti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reening proces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chool psychologist rol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Multiple criteria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ree of bia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tice and consent requireme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rm for parent request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MDT tea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omprehensive GMD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MDT report in written for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imeline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932" name="Rectangle 7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33" name="Rectangle 7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Education Placemen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Decisions based on need and abilitie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Progress monitoring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cceleration/Enrichment activiti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Board policies for caseload and class size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Waiver 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ssigned staff responsibiliti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Basis of placeme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lternativ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Educational or support servic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Qualified staff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Space or facilities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Rockwell"/>
              </a:rPr>
              <a:t>Administrative convenience</a:t>
            </a:r>
            <a:endParaRPr b="0" lang="en-US" sz="13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Private school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Rockwell"/>
              </a:rPr>
              <a:t>Homeschooling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937" name="Rectangle 3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38" name="Rectangle 3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Gifted Education Procedural Safeguards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Availability of policy and procedure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Students moving into district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Notic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Consent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mpartial due process hearing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Mediation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Confidentiality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Language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Dispute resolution at building/LEA level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Implementation of decision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Pattern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95959"/>
                </a:solidFill>
                <a:latin typeface="Rockwell"/>
              </a:rPr>
              <a:t>Documentation of mailing dates</a:t>
            </a: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lvl="1" marL="447840" indent="-223920">
              <a:lnSpc>
                <a:spcPct val="80000"/>
              </a:lnSpc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  <a:p>
            <a:pPr marL="223920" indent="-223920">
              <a:lnSpc>
                <a:spcPct val="8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DE will provid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. of mediation reques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. of due process hearing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No. of due process hearings with parent prevailing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tudent Record Review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tudent files availabl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Monitored for chapter 16 compliance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Documentation of mailing dates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grpSp>
        <p:nvGrpSpPr>
          <p:cNvPr id="945" name="Rectangle 6"/>
          <p:cNvGrpSpPr/>
          <p:nvPr/>
        </p:nvGrpSpPr>
        <p:grpSpPr>
          <a:xfrm>
            <a:off x="6827760" y="5205240"/>
            <a:ext cx="615960" cy="555840"/>
            <a:chOff x="6827760" y="5205240"/>
            <a:chExt cx="615960" cy="555840"/>
          </a:xfrm>
        </p:grpSpPr>
        <p:pic>
          <p:nvPicPr>
            <p:cNvPr id="946" name="Rectangle 6" descr=""/>
            <p:cNvPicPr/>
            <p:nvPr/>
          </p:nvPicPr>
          <p:blipFill>
            <a:blip r:embed="rId1"/>
            <a:stretch/>
          </p:blipFill>
          <p:spPr>
            <a:xfrm>
              <a:off x="6827760" y="5205240"/>
              <a:ext cx="61596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6905520" y="5257800"/>
              <a:ext cx="4557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6:26:08Z</dcterms:created>
  <dc:creator>CCIU</dc:creator>
  <dc:description/>
  <dc:language>en-US</dc:language>
  <cp:lastModifiedBy>CCIU</cp:lastModifiedBy>
  <dcterms:modified xsi:type="dcterms:W3CDTF">2010-01-08T13:28:59Z</dcterms:modified>
  <cp:revision>13</cp:revision>
  <dc:subject/>
  <dc:title>Compliance Monitoring Results</dc:title>
</cp:coreProperties>
</file>